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897-B204-42FE-B053-709E7A4E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DE5C-014C-47CB-ADC0-76A2F48D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35F-0C22-4CD9-90DA-0940A8F4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061-773C-45DD-942F-8E5FB553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16A-0345-4848-8D44-36EF18D7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491-8E5E-48C3-B6CB-BC7BC39E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85C5-FFC8-4B44-963D-E05A4857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C96-5CCC-41FF-83C8-491A15C6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259-9615-418E-AD22-ED33753F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6CF-1268-406E-A6C4-1FF9741D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E6D-6B1D-4280-A866-DE1CCAEA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6DC-D286-42A0-9892-855A7C23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24DF-B0B4-4B49-9058-51793908F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981160" cy="2286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4486320" cy="345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9880" y="40384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en the user types something in the cm textbox, the number of inches is calc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2742840" y="411444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5410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calculation is done by the user defined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2514240" y="548604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34290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User defined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800600" y="3657600"/>
            <a:ext cx="12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4:58:59Z</dcterms:created>
  <dc:creator>IS</dc:creator>
  <dc:description/>
  <dc:language>en-US</dc:language>
  <cp:lastModifiedBy>IS</cp:lastModifiedBy>
  <dcterms:modified xsi:type="dcterms:W3CDTF">2008-11-20T15:01:20Z</dcterms:modified>
  <cp:revision>1</cp:revision>
  <dc:subject/>
  <dc:title>Slide 1</dc:title>
</cp:coreProperties>
</file>